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B11A-9E80-431B-8F83-8EA1BAA6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4CF2-C481-4CDB-9AA2-7678922D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7170-091F-41EC-8BC6-82CF8BC0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E27C-346F-4038-8971-8AA64398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65FD-A988-4889-9701-8CCF4150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AB16-6616-464B-B1D5-DD70F8B2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6BB7-15E3-4BF8-9E3C-DC11FFED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1C76-51D3-4C07-9CDF-C06D562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CF22-2CB7-4668-9247-4AB32836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9603-973C-4EB3-9CFE-7ED2AEF0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2212-3ECF-4EE6-A828-D2448B3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2524-C688-4EBA-B8B9-941CD958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F5E4-4D69-4840-AEFC-A32C904A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EA4F-F7F1-4A8D-9508-71182F1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B362-39EB-4515-9D53-5F5DDD97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EE16-EAFF-4F13-AB16-46C34F03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6AED-55C4-438F-88A2-B39EFD98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68D7-CCD1-49C1-B766-E17610E3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1DE9-FF6D-4D54-8EE1-F1D260EA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C2C8-6DB0-4823-8F2B-B8D9A648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DD25-76AD-407F-8F5A-CBB40343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1589-F508-4256-8C2F-C4546887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A823-9E29-4527-BB5E-2C7350D5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68B6-8FB1-4849-98BF-9B664AC6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80DE-D1D2-433F-94A3-2651E140083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D263-261B-416A-8E79-5FD0159D18B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PORTED SPEECH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51055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2º BACHILLERATO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6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Arial"/>
              </a:rPr>
              <a:t>Reported ques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Seguimos manteniendo los cambios que mencionabamos al principio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Tiempo verba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Expresiones temporales y de lugar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Pronombres personales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En las “REPORTED QUESTIONS” ya no utilizamos partícula interrogativa. La frase adquiere la forma de una afirmativa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Sujeto + verbo + complement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Tom asked: “Are you coming to the party tonight, jane?”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Tom asked Ann if  she was coming to the party that night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6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71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35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785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31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81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4349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61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Ahora tenemos que prestar atención al tipo de pregunta que e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YES/NO QUESTION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F / WHETHER + SUJETO + VERBO + COMPLEMENT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Peter asked : "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Do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you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play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football?"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Peter asked me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whether (if)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played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football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QUESTION WITH QUESTION WORDS:</a:t>
            </a:r>
            <a:br>
              <a:rPr sz="3200"/>
            </a:b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RTÍCULA INTERROGATIVA + SUJETO + VERBO + COMPLEMENTO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Peter asked: "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When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do you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play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football?"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Peter asked me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when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played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football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12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76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2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48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08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52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00"/>
                </a:solidFill>
                <a:latin typeface="Arial"/>
              </a:rPr>
              <a:t>Reported command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Hay que seguir manteniendo los cambios de expresiones de lugar y tiempo y pronombres personal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El tiempo verbal cambia de IMPERATIVO (en D.S.) a INFINITIVO (en R.S)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La estructura normalmente va a ser la siguien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l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+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to (not to) + infinit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3809880"/>
          <a:ext cx="8305560" cy="2286000"/>
        </p:xfrm>
        <a:graphic>
          <a:graphicData uri="http://schemas.openxmlformats.org/drawingml/2006/table">
            <a:tbl>
              <a:tblPr/>
              <a:tblGrid>
                <a:gridCol w="4117680"/>
                <a:gridCol w="418788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ffirmative command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egative command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.S: Father: "Do your homework!“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.S: Father </a:t>
                      </a: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ld</a:t>
                      </a: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me </a:t>
                      </a: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 do</a:t>
                      </a: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my homework.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.S: Teacher. "Don't talk to your mate!" 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.S: The teacher </a:t>
                      </a: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ld</a:t>
                      </a: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me </a:t>
                      </a: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t to talk</a:t>
                      </a: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to my mate.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8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8250"/>
                            </p:stCondLst>
                            <p:childTnLst>
                              <p:par>
                                <p:cTn id="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475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00"/>
                </a:solidFill>
                <a:latin typeface="Arial"/>
              </a:rPr>
              <a:t>ORDERS, REQUESTS, SUGGESTION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uando queremos cambiar a estilo indirecto una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orden o petición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, usamos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ELL + somebody + infinitiv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EXAMPLE: </a:t>
            </a:r>
            <a:br>
              <a:rPr sz="1800"/>
            </a:b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he doctor said to me, "Stop smoking!". </a:t>
            </a:r>
            <a:br>
              <a:rPr sz="1800"/>
            </a:b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he doctor </a:t>
            </a: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told me to stop smoking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También podemos usar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ORDER (ordenar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"Get out of the car!" said the policeman. </a:t>
            </a:r>
            <a:br>
              <a:rPr sz="2000"/>
            </a:b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The policeman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ordered him to get out of the car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ASK (Pedir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"Could you please be quiet," she said. </a:t>
            </a:r>
            <a:br>
              <a:rPr sz="2000"/>
            </a:b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She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asked me to be quiet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WARN (advertir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The man with the gun said to us, "Don't move!" </a:t>
            </a:r>
            <a:br>
              <a:rPr sz="2000"/>
            </a:b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The man with the gun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arned us not to move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Otros verbos que utilizamos en estos casos son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INVITE (Invitar), BEG (Suplicar), FORBID (Prohib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625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60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975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850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7125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475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85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675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1700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Petición de objetos: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Utilizamos la formula</a:t>
            </a:r>
            <a:br>
              <a:rPr sz="2800"/>
            </a:br>
            <a:r>
              <a:rPr b="1" i="1" lang="es-ES" sz="2800" spc="-1" strike="noStrike">
                <a:solidFill>
                  <a:srgbClr val="003300"/>
                </a:solidFill>
                <a:latin typeface="Arial"/>
              </a:rPr>
              <a:t>ask + for + object</a:t>
            </a:r>
            <a:r>
              <a:rPr b="0" i="1" lang="es-ES" sz="28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a. "Can I have an apple?", she asked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She </a:t>
            </a:r>
            <a:r>
              <a:rPr b="1" i="1" lang="en-GB" sz="2400" spc="-1" strike="noStrike">
                <a:solidFill>
                  <a:srgbClr val="003300"/>
                </a:solidFill>
                <a:latin typeface="Arial"/>
              </a:rPr>
              <a:t>asked for an apple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b. "Can I have the newspaper, please?" </a:t>
            </a:r>
            <a:br>
              <a:rPr sz="2400"/>
            </a:b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asked for the newspaper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125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650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ugerencias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: normalmente utilizamos 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that-clause.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'That'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y 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'should'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son opcionales en estos casos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She said: "Why don't you get a mechanic to look at the car?"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She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suggested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 that I should get a mechanic to look at the car.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She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suggested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 I get a mechanic to look at the car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Otros verbos que podemos utilizar so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Insis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"It would be a good idea to see the dentist", said my mother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My mother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sisted that I see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 the dentis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Recommend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he dentist said, "I think you should use a different toothbrush"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he dentist </a:t>
            </a: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recommended that I should use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 a different toothbrush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Suggest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puede ir también seguido de gerundio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003300"/>
                </a:solidFill>
                <a:latin typeface="Arial"/>
              </a:rPr>
              <a:t> suggested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postponing the visit to the dentist.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175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675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70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550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725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7975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88500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100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525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21750"/>
                            </p:stCondLst>
                            <p:childTnLst>
                              <p:par>
                                <p:cTn id="6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31750"/>
                            </p:stCondLst>
                            <p:childTnLst>
                              <p:par>
                                <p:cTn id="6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3300"/>
                </a:solidFill>
                <a:latin typeface="Arial"/>
              </a:rPr>
              <a:t>HOPES, INTENTIONS, PROMISES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uando cambiamos a estilo indirecto una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intención, esperanza, o promesa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usamos un “reporting verb” adecuado a este significado, seguido 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that-clause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o 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to-infinitive</a:t>
            </a:r>
            <a:r>
              <a:rPr b="0" i="1" lang="es-ES" sz="18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"I'll pay you the money tomorrow." 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promised to pay me the money the next day.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promised that he would pay me the money the next day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Otros verbos que utilizan esta estructura son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Hope (Tener esperanza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"We should arrive in London before nightfall."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They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hoped to arrive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in London before nightfall.</a:t>
            </a:r>
            <a:br>
              <a:rPr sz="1800"/>
            </a:br>
            <a:r>
              <a:rPr b="0" i="1" lang="es-ES" sz="1800" spc="-1" strike="noStrike">
                <a:solidFill>
                  <a:srgbClr val="003300"/>
                </a:solidFill>
                <a:latin typeface="Arial"/>
              </a:rPr>
              <a:t>They 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hoped they would arrive</a:t>
            </a:r>
            <a:r>
              <a:rPr b="0" i="1" lang="es-ES" sz="1800" spc="-1" strike="noStrike">
                <a:solidFill>
                  <a:srgbClr val="003300"/>
                </a:solidFill>
                <a:latin typeface="Arial"/>
              </a:rPr>
              <a:t> in London before nightfall.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Threaten (Amenaz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"Give me the keys to the safe or I'll shoot you!"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threatened to shoot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me if I didn't give him the keys to the safe.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threatened that he would shoot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me if I didn't give him the keys to the safe.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Swear (Jur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"I swear it!  I'll be back by lunchtime."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sweared to be back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by lunchtime.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sweared that he would be back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by lunchtime.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260"/>
                            </p:stCondLst>
                            <p:childTnLst>
                              <p:par>
                                <p:cTn id="6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6780"/>
                            </p:stCondLst>
                            <p:childTnLst>
                              <p:par>
                                <p:cTn id="6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8420"/>
                            </p:stCondLst>
                            <p:childTnLst>
                              <p:par>
                                <p:cTn id="6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9260"/>
                            </p:stCondLst>
                            <p:childTnLst>
                              <p:par>
                                <p:cTn id="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4540"/>
                            </p:stCondLst>
                            <p:childTnLst>
                              <p:par>
                                <p:cTn id="6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30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166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218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PORTING VERB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Son verbos que vamos a utilizar en estilo indirecto a parte de SAY y TELL. Algunos ya los hemos visto anteriorment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Estos verbos dan información extra de lo que estamos hablando y la mayoría de las veces nos sirven para hacer el cambio a estilo indirecto de manera más libr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2400" spc="-1" strike="noStrike">
                <a:solidFill>
                  <a:srgbClr val="003300"/>
                </a:solidFill>
                <a:latin typeface="Arial"/>
              </a:rPr>
              <a:t>denied</a:t>
            </a:r>
            <a:r>
              <a:rPr b="0" i="1" lang="en-GB" sz="2400" spc="-1" strike="noStrike">
                <a:solidFill>
                  <a:srgbClr val="003300"/>
                </a:solidFill>
                <a:latin typeface="Arial"/>
              </a:rPr>
              <a:t> doing it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Vamos a dividir los “reporting verbs” según el tipo de oración que va a ir tras ello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25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8250"/>
                            </p:stCondLst>
                            <p:childTnLst>
                              <p:par>
                                <p:cTn id="7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Tipos de REPORTING VERBS (Algunos pueden estar en más de un grupo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s seguidos de una condicional: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F / WHETHER + frase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ASK   (pregun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EMEMBER   (record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AY    (dec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s seguidos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THAT + frase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NSWER   (responde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BOAST   (alardear / presum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COMPLAIN   (protes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DENY   (neg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REPLY   (responde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SAY   (dec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SUGGEST   (suger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TELL   (con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WARN   (advert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240"/>
                            </p:stCondLst>
                            <p:childTnLst>
                              <p:par>
                                <p:cTn id="7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200"/>
                            </p:stCondLst>
                            <p:childTnLst>
                              <p:par>
                                <p:cTn id="7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80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56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7120"/>
                            </p:stCondLst>
                            <p:childTnLst>
                              <p:par>
                                <p:cTn id="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7840"/>
                            </p:stCondLst>
                            <p:childTnLst>
                              <p:par>
                                <p:cTn id="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840"/>
                            </p:stCondLst>
                            <p:childTnLst>
                              <p:par>
                                <p:cTn id="7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640"/>
                            </p:stCondLst>
                            <p:childTnLst>
                              <p:par>
                                <p:cTn id="7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120"/>
                            </p:stCondLst>
                            <p:childTnLst>
                              <p:par>
                                <p:cTn id="7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800"/>
                            </p:stCondLst>
                            <p:childTnLst>
                              <p:par>
                                <p:cTn id="8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1240"/>
                            </p:stCondLst>
                            <p:childTnLst>
                              <p:par>
                                <p:cTn id="8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1920"/>
                            </p:stCondLst>
                            <p:childTnLst>
                              <p:par>
                                <p:cTn id="8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2440"/>
                            </p:stCondLst>
                            <p:childTnLst>
                              <p:par>
                                <p:cTn id="8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 seguido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THAT + frase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o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nfinitivo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CLAIM   (reclam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PROMISE   (promete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THREATEN   (amenaz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s seguidos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THAT+ frase conteniendo shoul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ADVISE   (aconsej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BEG   (suplic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DEMAND   (demand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ECOMMEND   (recomend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UGGES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s seguidos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complemento + infinitiv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DVIS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SK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BEG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INVITE   (invi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ORDER   (orden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SHOUT   (gri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WAR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480"/>
                            </p:stCondLst>
                            <p:childTnLst>
                              <p:par>
                                <p:cTn id="8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120"/>
                            </p:stCondLst>
                            <p:childTnLst>
                              <p:par>
                                <p:cTn id="8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840"/>
                            </p:stCondLst>
                            <p:childTnLst>
                              <p:par>
                                <p:cTn id="8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600"/>
                            </p:stCondLst>
                            <p:childTnLst>
                              <p:par>
                                <p:cTn id="8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360"/>
                            </p:stCondLst>
                            <p:childTnLst>
                              <p:par>
                                <p:cTn id="8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6080"/>
                            </p:stCondLst>
                            <p:childTnLst>
                              <p:par>
                                <p:cTn id="8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6640"/>
                            </p:stCondLst>
                            <p:childTnLst>
                              <p:par>
                                <p:cTn id="8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73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8200"/>
                            </p:stCondLst>
                            <p:childTnLst>
                              <p:par>
                                <p:cTn id="8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8520"/>
                            </p:stCondLst>
                            <p:childTnLst>
                              <p:par>
                                <p:cTn id="8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80"/>
                            </p:stCondLst>
                            <p:childTnLst>
                              <p:par>
                                <p:cTn id="8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360"/>
                            </p:stCondLst>
                            <p:childTnLst>
                              <p:par>
                                <p:cTn id="9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520"/>
                            </p:stCondLst>
                            <p:childTnLst>
                              <p:par>
                                <p:cTn id="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80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680"/>
                            </p:stCondLst>
                            <p:childTnLst>
                              <p:par>
                                <p:cTn id="9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1320"/>
                            </p:stCondLst>
                            <p:childTnLst>
                              <p:par>
                                <p:cTn id="9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1920"/>
                            </p:stCondLst>
                            <p:childTnLst>
                              <p:par>
                                <p:cTn id="9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48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USO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El estilo indirecto (REPORTED SPEECH) lo utilizamos para contar lo que una persona ha dicho pero sin citar exactamente sus palabra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DIRECT STYLE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00"/>
                </a:solidFill>
                <a:latin typeface="Arial"/>
              </a:rPr>
              <a:t>Tom said: “We are going to the cinema this afternoon.”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REPORTED SPEECH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00"/>
                </a:solidFill>
                <a:latin typeface="Arial"/>
              </a:rPr>
              <a:t>Tom said that they were going to the cinema that afternoo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945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195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2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67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7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AMBIOS A REALIZAR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Cuando pasamos una oración de estilo directo a indirecto tenemos que tener en cuenta una serie de cambios que tendremos que realizar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66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Tiempos verbal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66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Expresiones temporales y de luga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66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nombres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, (utilizando la lógica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DIRECT: Tom said: “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We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33cc33"/>
                </a:solidFill>
                <a:latin typeface="Arial"/>
              </a:rPr>
              <a:t>are going to visit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 Ann </a:t>
            </a:r>
            <a:r>
              <a:rPr b="0" i="1" lang="es-ES" sz="2400" spc="-1" strike="noStrike">
                <a:solidFill>
                  <a:srgbClr val="3333cc"/>
                </a:solidFill>
                <a:latin typeface="Arial"/>
              </a:rPr>
              <a:t>tomorrow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REPORTED: Tom said that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33cc33"/>
                </a:solidFill>
                <a:latin typeface="Arial"/>
              </a:rPr>
              <a:t>were going to visit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 Ann </a:t>
            </a:r>
            <a:r>
              <a:rPr b="0" i="1" lang="es-ES" sz="2400" spc="-1" strike="noStrike">
                <a:solidFill>
                  <a:srgbClr val="3333cc"/>
                </a:solidFill>
                <a:latin typeface="Arial"/>
              </a:rPr>
              <a:t>the following da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75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475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25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25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225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375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AMBIOS EN LOS TIEMPOS VERBALE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3300"/>
                </a:solidFill>
                <a:uFillTx/>
                <a:latin typeface="Arial"/>
              </a:rPr>
              <a:t>DIRECT SPEECH---------------------------- REPORTED SPEECH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PRESENT-------------------------------------------------------------PA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study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studie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are studying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were studying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PAST-----------------------------------------------------PAST PERFECT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studied 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had studie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were studying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had been studying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FUTURE---------------------------------------------------CONDITIONA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will study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would stud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6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35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6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310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335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6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35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6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785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IEMPOS VERBAL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41320"/>
          <a:ext cx="8991720" cy="6016680"/>
        </p:xfrm>
        <a:graphic>
          <a:graphicData uri="http://schemas.openxmlformats.org/drawingml/2006/table">
            <a:tbl>
              <a:tblPr/>
              <a:tblGrid>
                <a:gridCol w="2054160"/>
                <a:gridCol w="2844720"/>
                <a:gridCol w="409284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NS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EPORTED SPEECH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ESENT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eat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ate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ESENT CONTINUOU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are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were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ESENT PERFECT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have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ESENT PERFECT CONTINUOU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have been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been eating 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AST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ate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AST CONTINUOU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were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been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AST PERFECT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had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AST PERFECT CONTINUOU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had been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been eating 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UTURE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will eat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would eat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4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AMBIOS EN LOS MODAL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3733920"/>
                <a:gridCol w="449568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IRECT SPEECH</a:t>
                      </a:r>
                      <a:endParaRPr b="0" lang="en-US" sz="3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EPORTED SPEECH</a:t>
                      </a:r>
                      <a:endParaRPr b="0" lang="en-US" sz="3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AN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ULD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AY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GHT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UST / HAVE TO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UST /  HAD TO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OULD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4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AMBIOS EXPRESIONES TEMPORALES Y DE LUGAR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74660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IRECT SPEECH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EPORTED SPEECH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n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day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 day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night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 night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Yesterday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previous day / the day before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ast week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previous week / the week befor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 __________ ago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previous ______ / the _____ befor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morrow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following day / the day after / the next day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ext ___________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following ________ / the _______ after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r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is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s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os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Arial"/>
              </a:rPr>
              <a:t>Reported statement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Al hacer una frase en afirmativa o negativa, se han de tener en cuenta los cambios antes mencionados y hacerlo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Podemos utilizar la palabra “that” para introducir la frase en estilo indirecto. </a:t>
            </a:r>
            <a:r>
              <a:rPr b="1" i="1" lang="en-GB" sz="3200" spc="-1" strike="noStrike">
                <a:solidFill>
                  <a:srgbClr val="003300"/>
                </a:solidFill>
                <a:latin typeface="Arial"/>
              </a:rPr>
              <a:t>'That'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se puede omitir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00"/>
                </a:solidFill>
                <a:latin typeface="Arial"/>
              </a:rPr>
              <a:t>She told him that she was happ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00"/>
                </a:solidFill>
                <a:latin typeface="Arial"/>
              </a:rPr>
              <a:t>She told him she was happ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No usamos las comilla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0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62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870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45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12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Pondremos quien dijo la frase seguido de los verbos SAY o TELL en pasado. La diferencia entre ellos es que después de </a:t>
            </a:r>
            <a:r>
              <a:rPr b="1" i="1" lang="es-ES" sz="3200" spc="-1" strike="noStrike">
                <a:solidFill>
                  <a:srgbClr val="003300"/>
                </a:solidFill>
                <a:latin typeface="Arial"/>
              </a:rPr>
              <a:t>tell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tenemos que decir la persona a quien se lo dijo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00"/>
                </a:solidFill>
                <a:latin typeface="Arial"/>
              </a:rPr>
              <a:t>D.S.: Peter said, “Ann, I’m very ill.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00"/>
                </a:solidFill>
                <a:latin typeface="Arial"/>
              </a:rPr>
              <a:t>R.S.: Peter told Ann that he was very ill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325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ESALFARO6</cp:lastModifiedBy>
  <dcterms:modified xsi:type="dcterms:W3CDTF">2008-02-26T11:26:3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